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30C3-4709-4C17-AE27-19F908E25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261D-FC19-4C7B-8297-25853240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9746-FF7E-48C7-9ABC-988BE91D0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34BF-9852-428B-A4D3-265A66471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5FA8-9A75-4D16-9AF0-84975D93B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7BD2-0E6C-4B16-BD07-78297ED6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EAE0-3D18-4C00-897B-978392F3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8A06-76C8-41FE-A68D-0F076E7F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4902-38BA-44B8-8215-1FBDA347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900E-5D5A-4CF8-B85B-77AE5830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76E4-FE9F-4656-A1C8-9E834EB9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EF77-915A-49E2-9673-A5BCEE39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429A-9957-4FAD-870C-2EA3D58C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24EB-EDBF-4F8A-A7BA-F67C9B8F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A3CC-E478-49FD-9A2F-9D528F18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CB5C-3257-4CD5-BC9C-0440949BF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6F48-EB94-4CFF-A6D3-9C560D422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314F-1CC4-489D-804E-B8CEF103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19D1-861D-4DEA-A18A-A4B9C2EC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E00A-B459-4068-9E8F-F1E1FF12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97A1-B598-4D43-A7FA-0C7CFF9B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3830-868F-41F3-BDA6-3D477593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E24E-7DB3-484D-97F7-DA697EA6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9898-26CC-4B47-BB7D-AB789B52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0809-194D-4BE2-BC3D-C08FE113D97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7434-E01A-4360-9614-E718ECFF406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alisade.com/downloads/87236/rsk455std.zip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480" y="1371240"/>
            <a:ext cx="617364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cc66"/>
                </a:solidFill>
                <a:latin typeface="Verdana"/>
              </a:rPr>
              <a:t>CLASE DE SIMULA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Uso del software @Risk 4.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In42a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– Verano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Paso 7: Iniciar la Simulación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843280" y="1773360"/>
          <a:ext cx="340020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1773360"/>
                    <a:ext cx="340020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4759200" y="1917720"/>
            <a:ext cx="36036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08360" y="2781360"/>
            <a:ext cx="1873440" cy="1584360"/>
          </a:xfrm>
          <a:prstGeom prst="downArrow">
            <a:avLst>
              <a:gd name="adj1" fmla="val 53046"/>
              <a:gd name="adj2" fmla="val 32185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8000" y="4508640"/>
            <a:ext cx="89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Esto abre una ventana de resultados de @Risk, donde se pueden analizar los datos vía estadísticos descriptivos, gráficos,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Arial"/>
              </a:rPr>
              <a:t>Paso 8:Resultad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2252" b="29291"/>
          <a:stretch/>
        </p:blipFill>
        <p:spPr>
          <a:xfrm>
            <a:off x="1187280" y="1989000"/>
            <a:ext cx="6409080" cy="4464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332000" y="4292640"/>
            <a:ext cx="4464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ff"/>
                </a:solidFill>
                <a:latin typeface="Verdana"/>
              </a:rPr>
              <a:t>Estadística detalla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ff"/>
                </a:solidFill>
                <a:latin typeface="Verdana"/>
              </a:rPr>
              <a:t>Análisis de Sensibil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ff"/>
                </a:solidFill>
                <a:latin typeface="Verdana"/>
              </a:rPr>
              <a:t>Análisis de Escenar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92360" y="2565000"/>
            <a:ext cx="1295280" cy="1800360"/>
          </a:xfrm>
          <a:prstGeom prst="line">
            <a:avLst/>
          </a:prstGeom>
          <a:ln w="93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71640" y="2349360"/>
            <a:ext cx="720720" cy="358920"/>
          </a:xfrm>
          <a:prstGeom prst="octagon">
            <a:avLst>
              <a:gd name="adj" fmla="val 29287"/>
            </a:avLst>
          </a:prstGeom>
          <a:noFill/>
          <a:ln w="1908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cc66"/>
                </a:solidFill>
                <a:latin typeface="Verdana"/>
              </a:rPr>
              <a:t>Resultados: Estadística Detallad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0" t="0" r="-461" b="10256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211640" y="494172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ff"/>
                </a:solidFill>
                <a:latin typeface="Verdana"/>
              </a:rPr>
              <a:t>Prob VPN &l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780000" y="479700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cc66"/>
                </a:solidFill>
                <a:latin typeface="Verdana"/>
              </a:rPr>
              <a:t>Resultados: Análisis de Sensibilidad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0" r="37548" b="59203"/>
          <a:stretch/>
        </p:blipFill>
        <p:spPr>
          <a:xfrm>
            <a:off x="1908000" y="2492280"/>
            <a:ext cx="511200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cc66"/>
                </a:solidFill>
                <a:latin typeface="Verdana"/>
              </a:rPr>
              <a:t>Resultados: Análisis de escenario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0" t="0" r="34832" b="56481"/>
          <a:stretch/>
        </p:blipFill>
        <p:spPr>
          <a:xfrm>
            <a:off x="1403280" y="1981080"/>
            <a:ext cx="6408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Verdana"/>
              </a:rPr>
              <a:t>Resultados: Gráf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0" t="0" r="893" b="10256"/>
          <a:stretch/>
        </p:blipFill>
        <p:spPr>
          <a:xfrm>
            <a:off x="1332000" y="1844640"/>
            <a:ext cx="6408720" cy="4319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flipV="1">
            <a:off x="468360" y="2205000"/>
            <a:ext cx="2374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3284640"/>
            <a:ext cx="2592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lijo el gráf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(Tornado sirve para ver la sensibilida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3480" y="1371240"/>
            <a:ext cx="617364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cc66"/>
                </a:solidFill>
                <a:latin typeface="Verdana"/>
              </a:rPr>
              <a:t>CLASE DE SIMULA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Uso del software @Risk 4.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In42a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– Verano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Verdana"/>
              </a:rPr>
              <a:t>Paso 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980720"/>
            <a:ext cx="8928000" cy="32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Descargar programa de la pagina</a:t>
            </a: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CL" sz="2000" spc="-1" strike="noStrike" u="sng">
                <a:solidFill>
                  <a:srgbClr val="ff0033"/>
                </a:solidFill>
                <a:uFillTx/>
                <a:latin typeface="Verdana"/>
                <a:hlinkClick r:id="rId1"/>
              </a:rPr>
              <a:t>http://www.palisade.com/downloads/87236/rsk455std.z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Instalación de @Risk, que se acopla como una función del programa Exc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003640" y="4508640"/>
          <a:ext cx="2973600" cy="186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03640" y="4508640"/>
                    <a:ext cx="2973600" cy="18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716360" y="5084640"/>
            <a:ext cx="3167280" cy="719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239840" y="4886280"/>
          <a:ext cx="2039760" cy="120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39840" y="4886280"/>
                    <a:ext cx="2039760" cy="12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Verdana"/>
              </a:rPr>
              <a:t>Paso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980720"/>
            <a:ext cx="8928000" cy="32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Iniciar el programa @Ri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042920" y="2781360"/>
          <a:ext cx="6951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781360"/>
                    <a:ext cx="6951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5435640" y="6165720"/>
            <a:ext cx="194472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Verdana"/>
              </a:rPr>
              <a:t>Paso 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4865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Se utiliza un modelo ya existente en una hoja de cálculo (Ocuparemos simulación.x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Para abrir se utiliza el botón Abrir de la barra de herramientas de Exc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Verdana"/>
              </a:rPr>
              <a:t>Entradas y Salid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2637000"/>
            <a:ext cx="2520720" cy="21589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7200" spc="-1" strike="noStrike">
                <a:solidFill>
                  <a:srgbClr val="0000ff"/>
                </a:solidFill>
                <a:latin typeface="Century Gothic"/>
              </a:rPr>
              <a:t>@Risk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1280" y="2997360"/>
            <a:ext cx="2592360" cy="792000"/>
          </a:xfrm>
          <a:prstGeom prst="rightArrow">
            <a:avLst>
              <a:gd name="adj1" fmla="val 50000"/>
              <a:gd name="adj2" fmla="val 8183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 Gothic"/>
              </a:rPr>
              <a:t>Inpu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0360" y="3789360"/>
            <a:ext cx="2592360" cy="792000"/>
          </a:xfrm>
          <a:prstGeom prst="rightArrow">
            <a:avLst>
              <a:gd name="adj1" fmla="val 50000"/>
              <a:gd name="adj2" fmla="val 81830"/>
            </a:avLst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 Gothic"/>
              </a:rPr>
              <a:t>Outpu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2000" y="465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Verdana"/>
              </a:rPr>
              <a:t>Paso 4: Ingreso de Inpu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187280" y="1981080"/>
          <a:ext cx="67694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981080"/>
                    <a:ext cx="6769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5796000" y="4221000"/>
            <a:ext cx="194472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3200400"/>
            <a:ext cx="2521080" cy="934920"/>
          </a:xfrm>
          <a:prstGeom prst="wedgeRectCallout">
            <a:avLst>
              <a:gd name="adj1" fmla="val -45717"/>
              <a:gd name="adj2" fmla="val 65449"/>
            </a:avLst>
          </a:prstGeom>
          <a:solidFill>
            <a:srgbClr val="00ffff">
              <a:alpha val="59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Click con el botón derec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Verdana"/>
              </a:rPr>
              <a:t>Paso 4: Ingreso de Inpu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203640" y="1989000"/>
          <a:ext cx="575316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989000"/>
                    <a:ext cx="57531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 flipH="1" flipV="1">
            <a:off x="2626920" y="2276280"/>
            <a:ext cx="2521080" cy="13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2626920" y="3212640"/>
            <a:ext cx="252108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626920" y="4076640"/>
            <a:ext cx="2521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626920" y="4292640"/>
            <a:ext cx="252108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626920" y="4437000"/>
            <a:ext cx="2521080" cy="107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184464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ipo de Distribu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8000" y="2852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er parámet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8000" y="378936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2do parámet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8000" y="4653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ta Inf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8000" y="5445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ta Sup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cc66"/>
                </a:solidFill>
                <a:latin typeface="Verdana"/>
              </a:rPr>
              <a:t>Paso 5: Ingreso de Output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50920" y="1773360"/>
          <a:ext cx="6049800" cy="24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604980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4500720" y="2060640"/>
            <a:ext cx="194436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987640" y="5013360"/>
          <a:ext cx="3324240" cy="12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5013360"/>
                    <a:ext cx="332424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6732720" y="2060640"/>
            <a:ext cx="1366560" cy="4464000"/>
          </a:xfrm>
          <a:custGeom>
            <a:avLst/>
            <a:gdLst>
              <a:gd name="textAreaLeft" fmla="*/ 182880 w 1366560"/>
              <a:gd name="textAreaRight" fmla="*/ 1183680 w 1366560"/>
              <a:gd name="textAreaTop" fmla="*/ 869400 h 4464000"/>
              <a:gd name="textAreaBottom" fmla="*/ 2967480 h 446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415" stAng="-5400000" swAng="5400000"/>
                <a:lnTo>
                  <a:pt x="21600" y="10151"/>
                </a:lnTo>
                <a:arcTo wR="21600" hR="8415" stAng="0" swAng="3366405"/>
                <a:lnTo>
                  <a:pt x="5469" y="21326"/>
                </a:lnTo>
                <a:lnTo>
                  <a:pt x="0" y="17698"/>
                </a:lnTo>
                <a:lnTo>
                  <a:pt x="5469" y="13522"/>
                </a:lnTo>
                <a:lnTo>
                  <a:pt x="5469" y="16556"/>
                </a:lnTo>
                <a:arcTo wR="21600" hR="8415" stAng="3366405" swAng="-3227593"/>
                <a:lnTo>
                  <a:pt x="21485" y="9283"/>
                </a:lnTo>
                <a:arcTo wR="21600" hR="8415" stAng="-138812" swAng="-5261188"/>
                <a:close/>
              </a:path>
              <a:path fill="darkenLess" w="21600" h="21600">
                <a:moveTo>
                  <a:pt x="0" y="0"/>
                </a:moveTo>
                <a:arcTo wR="21600" hR="8415" stAng="-5400000" swAng="5400000"/>
                <a:lnTo>
                  <a:pt x="21600" y="10151"/>
                </a:lnTo>
                <a:arcTo wR="21600" hR="8415" stAng="0" swAng="-138812"/>
                <a:lnTo>
                  <a:pt x="21485" y="9283"/>
                </a:lnTo>
                <a:arcTo wR="21600" hR="8415" stAng="-138812" swAng="-5261188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8000" y="2708280"/>
            <a:ext cx="2519280" cy="865080"/>
          </a:xfrm>
          <a:prstGeom prst="wedgeRectCallout">
            <a:avLst>
              <a:gd name="adj1" fmla="val 41180"/>
              <a:gd name="adj2" fmla="val -140643"/>
            </a:avLst>
          </a:prstGeom>
          <a:solidFill>
            <a:srgbClr val="00ffff">
              <a:alpha val="59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Verdana"/>
              </a:rPr>
              <a:t>Click con el botón derech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Paso 6: Configuración del Simulador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635280" y="1700280"/>
          <a:ext cx="1847880" cy="65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1700280"/>
                    <a:ext cx="184788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3924360" y="1700280"/>
            <a:ext cx="57636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08000" y="3068640"/>
          <a:ext cx="3486240" cy="292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3068640"/>
                    <a:ext cx="348624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5508720" y="3789360"/>
          <a:ext cx="3467160" cy="290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08720" y="3789360"/>
                    <a:ext cx="3467160" cy="29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3635280" y="2421000"/>
            <a:ext cx="1873440" cy="503280"/>
          </a:xfrm>
          <a:prstGeom prst="downArrow">
            <a:avLst>
              <a:gd name="adj1" fmla="val 54574"/>
              <a:gd name="adj2" fmla="val 58046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58920" y="3573360"/>
            <a:ext cx="496872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3716280"/>
            <a:ext cx="158436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51640" y="4797360"/>
            <a:ext cx="93636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08720" y="4724280"/>
            <a:ext cx="86364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6021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# grande de iter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9718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Simulación De MonteCar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20:07:07Z</dcterms:created>
  <dc:creator>Jose Manuel Mino Castaneda</dc:creator>
  <dc:description/>
  <dc:language>en-US</dc:language>
  <cp:lastModifiedBy>...</cp:lastModifiedBy>
  <dcterms:modified xsi:type="dcterms:W3CDTF">2006-01-17T17:45:28Z</dcterms:modified>
  <cp:revision>21</cp:revision>
  <dc:subject/>
  <dc:title>CLASE DE SIMULACIÓN</dc:title>
</cp:coreProperties>
</file>